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WHOOSH.WAV" ContentType="audio/x-wav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12D-A3FC-4CC4-B7B3-9DDB09F7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05D-BC86-401D-83E5-8CCAF497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6E0-BA2B-4301-8895-9755C5AB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C97-FBB8-4D43-AD24-0CCC3C51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06F-90B5-47A8-8D4E-54E6A50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AFB-9646-4A33-983C-FBEACB2F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138-0847-4E2B-9A5E-D749EC1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D7E-E646-4710-A899-F9633DA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95B-BB07-4950-9058-0124F419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F60-E53F-4543-982B-40B04A3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A4D-BFA4-4CB6-9F44-CF98F24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28A-5205-4F84-8270-DA81FA7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F729-D480-4AF5-9A52-827720FA6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4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5340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*</a:t>
            </a: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존재를 나타내는 말</a:t>
            </a: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                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긍정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            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부정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사람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,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동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</a:t>
            </a:r>
            <a:r>
              <a:rPr b="1" lang="ko-KR" sz="4000" spc="-1" strike="noStrike">
                <a:solidFill>
                  <a:srgbClr val="ff3300"/>
                </a:solidFill>
                <a:latin typeface="신명조"/>
                <a:ea typeface="신명조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사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,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식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4952880"/>
            <a:ext cx="2592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あります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3352680"/>
            <a:ext cx="2987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いません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352680"/>
            <a:ext cx="2592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います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4952880"/>
            <a:ext cx="3419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ありません</a:t>
            </a:r>
            <a:r>
              <a:rPr b="1" lang="en-US" sz="4400" spc="-1" strike="noStrike">
                <a:solidFill>
                  <a:srgbClr val="ff0000"/>
                </a:solidFill>
                <a:latin typeface="신명조"/>
                <a:ea typeface="신명조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76160" y="5257800"/>
            <a:ext cx="1675800" cy="1066680"/>
            <a:chOff x="1676160" y="5257800"/>
            <a:chExt cx="1675800" cy="1066680"/>
          </a:xfrm>
        </p:grpSpPr>
        <p:sp>
          <p:nvSpPr>
            <p:cNvPr id="164" name=""/>
            <p:cNvSpPr/>
            <p:nvPr/>
          </p:nvSpPr>
          <p:spPr>
            <a:xfrm rot="5400000">
              <a:off x="2117880" y="53643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2777760" y="57463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022480" y="54864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427120" y="52574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28200" y="55328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609640" y="57700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2946960" y="55821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3040560" y="56282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024720" y="54547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518920" y="54525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2619720" y="55944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2810160" y="55692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2679120" y="55684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2387160" y="62154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2667960" y="57866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3069000" y="57114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2524680" y="57459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2579400" y="56502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2968560" y="56160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758680" y="54331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3158280" y="55670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2591280" y="57852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2937600" y="57542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612520" y="56394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3127680" y="54752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2412720" y="54810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2958480" y="56106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2606760" y="57614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2223000" y="557028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2629440" y="55386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2784960" y="55681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3035160" y="57430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1953720" y="53013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1925280" y="537444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2008440" y="54716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2014920" y="53697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937880" y="54759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2004480" y="54219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1981440" y="53557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1596240" y="56642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1677600" y="58363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996560" y="58572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2303280" y="59691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2337840" y="60436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4008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ま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437920" y="3276720"/>
            <a:ext cx="1676160" cy="1066680"/>
            <a:chOff x="2437920" y="3276720"/>
            <a:chExt cx="1676160" cy="1066680"/>
          </a:xfrm>
        </p:grpSpPr>
        <p:sp>
          <p:nvSpPr>
            <p:cNvPr id="211" name=""/>
            <p:cNvSpPr/>
            <p:nvPr/>
          </p:nvSpPr>
          <p:spPr>
            <a:xfrm rot="5400000">
              <a:off x="2879640" y="338328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3539520" y="376524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2784600" y="350532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3189240" y="327636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3190320" y="355176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3371760" y="378900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3709080" y="360108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3802680" y="364716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3786840" y="347364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3281040" y="347148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3381480" y="361332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3571920" y="358812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441240" y="358740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3148920" y="423432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3430080" y="380556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3831120" y="373032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3286800" y="376488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341160" y="366912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3730680" y="363492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520440" y="345204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3920400" y="358596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3353040" y="380412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3699720" y="377316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3374280" y="365832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3889800" y="349416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3174480" y="349992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3720600" y="362952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3368880" y="378036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2985840" y="3589200"/>
              <a:ext cx="120960" cy="20952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5400000">
              <a:off x="3391200" y="355752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3547080" y="358704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3796920" y="376200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2715480" y="332028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2687760" y="3393360"/>
              <a:ext cx="61920" cy="15192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2770200" y="349056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2776680" y="338868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2699640" y="349488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2766240" y="344088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743200" y="337464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2358000" y="368316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2439360" y="385524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758680" y="387612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3065040" y="398808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3099960" y="406260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1125360"/>
            <a:ext cx="2057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し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3760" y="3886200"/>
            <a:ext cx="1675800" cy="1066680"/>
            <a:chOff x="5333760" y="3886200"/>
            <a:chExt cx="1675800" cy="1066680"/>
          </a:xfrm>
        </p:grpSpPr>
        <p:sp>
          <p:nvSpPr>
            <p:cNvPr id="266" name=""/>
            <p:cNvSpPr/>
            <p:nvPr/>
          </p:nvSpPr>
          <p:spPr>
            <a:xfrm rot="5400000">
              <a:off x="5775480" y="39927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6435360" y="43747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5680080" y="41148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6084720" y="38858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6085800" y="41612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6267240" y="43984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6604560" y="42105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6698160" y="42566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6682320" y="40831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6176520" y="40809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277320" y="42228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6467760" y="41976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6336720" y="41968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6044760" y="48438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6325560" y="44150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6726600" y="43398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6182280" y="43743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6237000" y="42786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626160" y="42444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416280" y="40615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6815880" y="41954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248880" y="44136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6595200" y="43826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6270120" y="42678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6785280" y="41036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6070320" y="41094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6616080" y="42390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6264360" y="43898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5880600" y="419868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6287040" y="41670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6442560" y="41965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6692760" y="43714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5611320" y="39297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5582880" y="400284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666040" y="41000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5672520" y="39981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5595480" y="41043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662080" y="40503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639040" y="39841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5253840" y="42926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00000">
              <a:off x="5335200" y="44647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5654160" y="44856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5960880" y="45975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995440" y="46720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2000" y="1125360"/>
            <a:ext cx="16761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よ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752120" y="4114800"/>
            <a:ext cx="1676160" cy="1066680"/>
            <a:chOff x="1752120" y="4114800"/>
            <a:chExt cx="1676160" cy="1066680"/>
          </a:xfrm>
        </p:grpSpPr>
        <p:sp>
          <p:nvSpPr>
            <p:cNvPr id="317" name=""/>
            <p:cNvSpPr/>
            <p:nvPr/>
          </p:nvSpPr>
          <p:spPr>
            <a:xfrm rot="5400000">
              <a:off x="2193840" y="42213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2853720" y="46033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2098800" y="43434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2503440" y="41144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504520" y="43898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2685960" y="46270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3023280" y="44391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3116880" y="44852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3101040" y="43117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400000">
              <a:off x="2595240" y="43095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2695680" y="44514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2886120" y="44262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2755440" y="44254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2463120" y="50724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2744280" y="46436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3145320" y="45684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2601000" y="46029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2655360" y="45072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3044880" y="44730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2834640" y="42901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3234600" y="44240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2667240" y="46422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3013920" y="46112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2688480" y="44964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3204000" y="43322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2488680" y="43380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3034800" y="44676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683080" y="46184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2300040" y="4427280"/>
              <a:ext cx="120960" cy="20952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2705400" y="43956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2861280" y="44251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3111120" y="46000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2029680" y="41583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2001960" y="4231440"/>
              <a:ext cx="61920" cy="15192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2084400" y="43286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2090880" y="42267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2013840" y="43329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2080440" y="42789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2057400" y="42127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1672200" y="45212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1753560" y="46933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072880" y="47142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2379240" y="48261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2414160" y="49006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648320" y="5257800"/>
            <a:ext cx="35049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ざる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な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066680" y="2133720"/>
            <a:ext cx="3504960" cy="3835080"/>
            <a:chOff x="1066680" y="2133720"/>
            <a:chExt cx="3504960" cy="3835080"/>
          </a:xfrm>
        </p:grpSpPr>
        <p:graphicFrame>
          <p:nvGraphicFramePr>
            <p:cNvPr id="368" name=""/>
            <p:cNvGraphicFramePr/>
            <p:nvPr/>
          </p:nvGraphicFramePr>
          <p:xfrm>
            <a:off x="1066680" y="2994480"/>
            <a:ext cx="3504960" cy="297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994480"/>
                      <a:ext cx="3504960" cy="29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"/>
            <p:cNvGraphicFramePr/>
            <p:nvPr/>
          </p:nvGraphicFramePr>
          <p:xfrm>
            <a:off x="1408680" y="2133720"/>
            <a:ext cx="2649960" cy="22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8680" y="2133720"/>
                      <a:ext cx="2649960" cy="22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2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1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개는 테이블 아래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2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개는 테이블 옆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525780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4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꽃은 바구니 안에 있습니다</a:t>
            </a: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58128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3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꽃은 테이블 위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80480" y="1143000"/>
            <a:ext cx="581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いぬは テ－ブルの したに います </a:t>
            </a: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いぬは テ－ブルの  </a:t>
            </a:r>
            <a:r>
              <a:rPr b="0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に い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4737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はなは テ－ブルの うえに あり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1320" y="6033960"/>
            <a:ext cx="533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はなは ざ</a:t>
            </a: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る</a:t>
            </a: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の なかに あり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7543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609588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0" y="3048120"/>
            <a:ext cx="3581280" cy="3809880"/>
            <a:chOff x="0" y="3048120"/>
            <a:chExt cx="3581280" cy="3809880"/>
          </a:xfrm>
        </p:grpSpPr>
        <p:pic>
          <p:nvPicPr>
            <p:cNvPr id="389" name="" descr=""/>
            <p:cNvPicPr/>
            <p:nvPr/>
          </p:nvPicPr>
          <p:blipFill>
            <a:blip r:embed="rId4"/>
            <a:stretch/>
          </p:blipFill>
          <p:spPr>
            <a:xfrm>
              <a:off x="762120" y="3048120"/>
              <a:ext cx="25905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0" y="4114800"/>
              <a:ext cx="35812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6"/>
            <a:stretch/>
          </p:blipFill>
          <p:spPr>
            <a:xfrm>
              <a:off x="1219320" y="5410440"/>
              <a:ext cx="83808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066680" y="4343400"/>
            <a:ext cx="16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7162920" y="228600"/>
          <a:ext cx="127476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28600"/>
                    <a:ext cx="1274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6553080" y="2438280"/>
          <a:ext cx="1613160" cy="242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53080" y="2438280"/>
                    <a:ext cx="16131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0" y="1143000"/>
          <a:ext cx="1828800" cy="19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1143000"/>
                    <a:ext cx="18288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0" y="38862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2960" y="380880"/>
            <a:ext cx="565776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920" y="25146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신명조"/>
                <a:ea typeface="신명조"/>
              </a:rPr>
              <a:t>なか </a:t>
            </a:r>
            <a:r>
              <a:rPr b="1" lang="zh-CN" sz="44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380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うえ </a:t>
            </a:r>
            <a:r>
              <a:rPr b="1" lang="zh-CN" sz="3600" spc="-1" strike="noStrike">
                <a:solidFill>
                  <a:srgbClr val="3333cc"/>
                </a:solidFill>
                <a:latin typeface="신명조 약자"/>
                <a:ea typeface="신명조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2362320"/>
            <a:ext cx="23716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4724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した </a:t>
            </a:r>
            <a:r>
              <a:rPr b="1" lang="zh-CN" sz="36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1814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신명조"/>
                <a:ea typeface="신명조"/>
              </a:rPr>
              <a:t>まえ </a:t>
            </a:r>
            <a:r>
              <a:rPr b="1" lang="zh-CN" sz="40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6156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886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うしろ </a:t>
            </a:r>
            <a:r>
              <a:rPr b="1" lang="zh-CN" sz="4000" spc="-1" strike="noStrike">
                <a:solidFill>
                  <a:srgbClr val="3333cc"/>
                </a:solidFill>
                <a:latin typeface=""/>
                <a:ea typeface="신명조 약자"/>
              </a:rPr>
              <a:t>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600200" y="2286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962520" y="3962520"/>
            <a:ext cx="1523880" cy="84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52578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2971800" y="5257800"/>
            <a:ext cx="1752480" cy="9698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603396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531880" cy="1401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1143000"/>
            <a:ext cx="6629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143000"/>
            <a:ext cx="16002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71600" y="5105520"/>
            <a:ext cx="2532240" cy="140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ま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2531880" cy="1401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143000"/>
            <a:ext cx="6629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1143000"/>
            <a:ext cx="2057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し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32240" cy="1401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26828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</a:t>
            </a:r>
            <a:r>
              <a:rPr b="1" lang="en-US" sz="4000" spc="-1" strike="noStrike">
                <a:solidFill>
                  <a:srgbClr val="ff0000"/>
                </a:solidFill>
                <a:latin typeface="신명조"/>
                <a:ea typeface="신명조"/>
              </a:rPr>
              <a:t>           </a:t>
            </a: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268280"/>
            <a:ext cx="16765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531880" cy="140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ざる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な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66680" y="1981080"/>
            <a:ext cx="3124080" cy="4063320"/>
            <a:chOff x="1066680" y="1981080"/>
            <a:chExt cx="3124080" cy="4063320"/>
          </a:xfrm>
        </p:grpSpPr>
        <p:graphicFrame>
          <p:nvGraphicFramePr>
            <p:cNvPr id="103" name=""/>
            <p:cNvGraphicFramePr/>
            <p:nvPr/>
          </p:nvGraphicFramePr>
          <p:xfrm>
            <a:off x="1066680" y="3011040"/>
            <a:ext cx="3124080" cy="303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3011040"/>
                      <a:ext cx="3124080" cy="30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1877760" y="1981080"/>
            <a:ext cx="2070720" cy="28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77760" y="1981080"/>
                      <a:ext cx="2070720" cy="28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61960" y="2438280"/>
            <a:ext cx="1675800" cy="1067040"/>
            <a:chOff x="2361960" y="2438280"/>
            <a:chExt cx="1675800" cy="1067040"/>
          </a:xfrm>
        </p:grpSpPr>
        <p:sp>
          <p:nvSpPr>
            <p:cNvPr id="114" name=""/>
            <p:cNvSpPr/>
            <p:nvPr/>
          </p:nvSpPr>
          <p:spPr>
            <a:xfrm rot="5400000">
              <a:off x="2803680" y="254520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63560" y="292716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708280" y="2667240"/>
              <a:ext cx="18612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3112920" y="243792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3114000" y="271332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3295080" y="2950920"/>
              <a:ext cx="32148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632760" y="276264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726360" y="2809080"/>
              <a:ext cx="22284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3710520" y="263556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3204720" y="263304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305520" y="277524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3495960" y="274968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3364920" y="274896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072960" y="339624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3353760" y="296748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3754800" y="289224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3210480" y="292680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3265200" y="283068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654360" y="279648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3444480" y="261396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44080" y="274788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3277080" y="296568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3623400" y="293508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297960" y="2820240"/>
              <a:ext cx="19008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3813480" y="265572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3098520" y="266184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3644280" y="279108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292560" y="294228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908800" y="275076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3315240" y="271908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470760" y="274860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3720960" y="292356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2639160" y="2481840"/>
              <a:ext cx="19512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2611080" y="255492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694240" y="265212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700720" y="255024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23680" y="2656800"/>
              <a:ext cx="6804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690280" y="260244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2667240" y="253620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282040" y="284472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2363400" y="301716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2682000" y="3038040"/>
              <a:ext cx="18108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2989080" y="315000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023280" y="3224520"/>
              <a:ext cx="30816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4T07:53:47Z</dcterms:created>
  <dc:creator>최선희</dc:creator>
  <dc:description/>
  <dc:language>en-US</dc:language>
  <cp:lastModifiedBy>이명애</cp:lastModifiedBy>
  <cp:lastPrinted>1998-07-12T03:18:40Z</cp:lastPrinted>
  <dcterms:modified xsi:type="dcterms:W3CDTF">2008-08-13T07:28:31Z</dcterms:modified>
  <cp:revision>67</cp:revision>
  <dc:subject/>
  <dc:title>슬라이드 제목 없음</dc:title>
</cp:coreProperties>
</file>